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448C-CA0A-4D1A-895F-1AB31ECA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3F43-89EC-470F-92EC-EF3F3980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2D04-191B-4905-B7AD-2A11014A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92D1-B2AF-42EF-957A-82E5970C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4839-8806-4C58-9505-3D14C00B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4FCA-8872-44B5-9F43-DE839356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E416-6F0E-48EC-995C-74686F1D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9544-C81F-441B-A6EA-5FC561FC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298A-8252-43A3-8425-FA245D32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AA40-DE7A-4785-8E7D-B61C66F1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3889-54FD-4CA0-8976-F88CD660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3B04-ADF6-493E-9068-4599D329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1FEF-699A-48D3-8806-6B81A2E2A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51080" y="3636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Improvements to OL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ob Walko - RS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771480"/>
            <a:ext cx="89312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Completed first phase of DOE-funded project (Implementation into OLAM of upgraded microphysics scheme from Bill Cotton’s group at Colorado State Universi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Upgrades impact all of the follow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a) Categorization of hydrometeors into distinct cl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b) Physical properties of each hydrometeor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c) Physical processes experienced by hydromete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d) Representation of how hydrometeor classes interact in colli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e) Microphysical effects of aeros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I made significant structural changes to some parts, in close consultation with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Compared new and old microphysics in OLAM simulations of Hurricane Frances.  Results were much more similar than different, but differences were readily apparent.  (Frances was “highly predictable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Continuing detailed tests/examinations of individual components and will deliver new OLAM/micro to CSU group in Febru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20:39:37Z</dcterms:created>
  <dc:creator>walko</dc:creator>
  <dc:description/>
  <dc:language>en-US</dc:language>
  <cp:lastModifiedBy>walko</cp:lastModifiedBy>
  <dcterms:modified xsi:type="dcterms:W3CDTF">2010-01-20T19:27:23Z</dcterms:modified>
  <cp:revision>8</cp:revision>
  <dc:subject/>
  <dc:title>Slide 1</dc:title>
</cp:coreProperties>
</file>